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B37-D1A6-42ED-A5FA-BDD8FD32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31E-8016-4A95-9AE5-2B4283B3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638-99D0-46C6-8D35-EE6C325E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B84-B27B-4CBB-A646-51056EDC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8E46-C3CE-4C29-9AB7-75D527F7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3EA9-88A1-4197-B49A-852C16AC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46DE-204C-40A3-B198-BDF12325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C34D-5ABF-4188-A73B-2F8B9C89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B2E6-8003-47B1-8A03-286F0196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8D1B-C75B-4B85-836E-63D8B0C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EF73-1975-47B4-B8AB-CD5F701D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711-0BD2-491C-83D3-9FB948B4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323A-FD96-4B53-9485-F01D2BE4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61F9-B758-4927-AAC2-CBFAA221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A117-6759-4647-B666-C25B28BA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4254-5C28-41F7-8287-56E9CC03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4AF5-CACE-4BD2-816B-6010A7FD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F23A-5B3A-4666-9C7E-AD72BED9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09C3-A140-455C-8FB7-932A767E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4481-8444-4434-A58F-C1EA8FD6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A3DB-0F39-4BED-ABB4-A63220C4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E7EB2-ADCE-4620-92E0-F2436A22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10D-254E-42DF-B170-E5C7DFD7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68AF-A912-4E68-A637-09D43166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90A7-C1DB-4E20-99DF-10CC3B93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0E799-2E6D-4259-97F3-B148545F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30C8-4887-40F5-A3F0-D7A002DD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2A75-65AF-4A6E-AA76-997A6E6F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0680-11C0-464C-9129-3D89271A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AB8B-0218-4702-8087-86264963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AB3-6B1B-414D-A170-14546E42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00F-107F-4AD5-8018-4A54C490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6CA-8FDE-4E6B-9A3C-6B51D787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6A4-8236-430E-B6B2-6A0986B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EFC-12EF-427C-9F0C-69B04BF3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0FC-8791-4F7B-B35A-A56F8824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7B20-5E6D-4637-900C-AABC39A85B55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31B0-8D20-4F6D-AB0F-CA51971EBC3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BB3A-2C5A-45B8-8CB2-619188653E91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TRABAJO COLABOR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66"/>
                </a:solidFill>
                <a:latin typeface="Arial"/>
              </a:rPr>
              <a:t>SECTOR EDUCATIVO 03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634360" y="56088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30 DE MAYO DEL 201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j0343449[1]"/>
          <p:cNvPicPr/>
          <p:nvPr/>
        </p:nvPicPr>
        <p:blipFill>
          <a:blip r:embed="rId1"/>
          <a:stretch/>
        </p:blipFill>
        <p:spPr>
          <a:xfrm>
            <a:off x="684360" y="3573360"/>
            <a:ext cx="1787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632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rabajo colaborativo : </a:t>
            </a:r>
            <a:r>
              <a:rPr b="1" lang="es-MX" sz="2400" spc="-1" strike="noStrike">
                <a:solidFill>
                  <a:srgbClr val="cc0000"/>
                </a:solidFill>
                <a:latin typeface="Arial"/>
              </a:rPr>
              <a:t>Definició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Diagram 7"/>
          <p:cNvGrpSpPr/>
          <p:nvPr/>
        </p:nvGrpSpPr>
        <p:grpSpPr>
          <a:xfrm>
            <a:off x="730440" y="717840"/>
            <a:ext cx="7466040" cy="5995800"/>
            <a:chOff x="730440" y="717840"/>
            <a:chExt cx="7466040" cy="5995800"/>
          </a:xfrm>
        </p:grpSpPr>
        <p:sp>
          <p:nvSpPr>
            <p:cNvPr id="142" name="_s1028"/>
            <p:cNvSpPr/>
            <p:nvPr/>
          </p:nvSpPr>
          <p:spPr>
            <a:xfrm flipH="1" flipV="1">
              <a:off x="2662920" y="296568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_s1029"/>
            <p:cNvSpPr/>
            <p:nvPr/>
          </p:nvSpPr>
          <p:spPr>
            <a:xfrm>
              <a:off x="730440" y="1843200"/>
              <a:ext cx="2071800" cy="1497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4) Interacción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promotora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_s1030"/>
            <p:cNvSpPr/>
            <p:nvPr/>
          </p:nvSpPr>
          <p:spPr>
            <a:xfrm flipH="1">
              <a:off x="2665800" y="4088520"/>
              <a:ext cx="90432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_s1031"/>
            <p:cNvSpPr/>
            <p:nvPr/>
          </p:nvSpPr>
          <p:spPr>
            <a:xfrm>
              <a:off x="734040" y="4093200"/>
              <a:ext cx="2071800" cy="1497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3) Habilidade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colaboració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_s1032"/>
            <p:cNvSpPr/>
            <p:nvPr/>
          </p:nvSpPr>
          <p:spPr>
            <a:xfrm>
              <a:off x="4465440" y="445932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_s1033"/>
            <p:cNvSpPr/>
            <p:nvPr/>
          </p:nvSpPr>
          <p:spPr>
            <a:xfrm>
              <a:off x="3430440" y="5216040"/>
              <a:ext cx="2071800" cy="1497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2) Inter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dependencia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positiv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_s1034"/>
            <p:cNvSpPr/>
            <p:nvPr/>
          </p:nvSpPr>
          <p:spPr>
            <a:xfrm>
              <a:off x="5356800" y="40867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_s1035"/>
            <p:cNvSpPr/>
            <p:nvPr/>
          </p:nvSpPr>
          <p:spPr>
            <a:xfrm>
              <a:off x="6123960" y="4088520"/>
              <a:ext cx="2072520" cy="14979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Respon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individua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_s1036"/>
            <p:cNvSpPr/>
            <p:nvPr/>
          </p:nvSpPr>
          <p:spPr>
            <a:xfrm flipV="1">
              <a:off x="5356800" y="29635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_s1037"/>
            <p:cNvSpPr/>
            <p:nvPr/>
          </p:nvSpPr>
          <p:spPr>
            <a:xfrm>
              <a:off x="6121080" y="1840680"/>
              <a:ext cx="2071800" cy="149760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quiere trabaj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juntos y cooper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 logro de me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_s1038"/>
            <p:cNvSpPr/>
            <p:nvPr/>
          </p:nvSpPr>
          <p:spPr>
            <a:xfrm flipV="1">
              <a:off x="4461840" y="221364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_s1039"/>
            <p:cNvSpPr/>
            <p:nvPr/>
          </p:nvSpPr>
          <p:spPr>
            <a:xfrm>
              <a:off x="3427560" y="717840"/>
              <a:ext cx="2071800" cy="1497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) Proceso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grup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_s1040"/>
            <p:cNvSpPr/>
            <p:nvPr/>
          </p:nvSpPr>
          <p:spPr>
            <a:xfrm>
              <a:off x="3427560" y="2968200"/>
              <a:ext cx="2071800" cy="1497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Driscoll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Vergara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5" name="Text Box 25"/>
          <p:cNvSpPr/>
          <p:nvPr/>
        </p:nvSpPr>
        <p:spPr>
          <a:xfrm>
            <a:off x="88920" y="78408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Constructivismo sociocultural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Organization Chart 2"/>
          <p:cNvGrpSpPr/>
          <p:nvPr/>
        </p:nvGrpSpPr>
        <p:grpSpPr>
          <a:xfrm>
            <a:off x="0" y="0"/>
            <a:ext cx="9143640" cy="6856560"/>
            <a:chOff x="0" y="0"/>
            <a:chExt cx="9143640" cy="6856560"/>
          </a:xfrm>
        </p:grpSpPr>
        <p:cxnSp>
          <p:nvCxnSpPr>
            <p:cNvPr id="157" name="_s2052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717160" y="4712400"/>
              <a:ext cx="857520" cy="252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2053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3095280" y="4187520"/>
              <a:ext cx="857520" cy="105228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2054"/>
            <p:cNvCxnSpPr>
              <a:stCxn id="164" idx="0"/>
              <a:endCxn id="162" idx="2"/>
            </p:cNvCxnSpPr>
            <p:nvPr/>
          </p:nvCxnSpPr>
          <p:spPr>
            <a:xfrm flipH="1" flipV="1" rot="5400000">
              <a:off x="2045520" y="4189680"/>
              <a:ext cx="857520" cy="104796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2055"/>
            <p:cNvCxnSpPr>
              <a:stCxn id="162" idx="0"/>
              <a:endCxn id="166" idx="2"/>
            </p:cNvCxnSpPr>
            <p:nvPr/>
          </p:nvCxnSpPr>
          <p:spPr>
            <a:xfrm flipH="1" flipV="1" rot="5400000">
              <a:off x="3356640" y="1354680"/>
              <a:ext cx="857520" cy="15750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056"/>
            <p:cNvCxnSpPr>
              <a:stCxn id="168" idx="0"/>
              <a:endCxn id="166" idx="2"/>
            </p:cNvCxnSpPr>
            <p:nvPr/>
          </p:nvCxnSpPr>
          <p:spPr>
            <a:xfrm flipV="1" rot="16200000">
              <a:off x="598032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057"/>
            <p:cNvCxnSpPr>
              <a:stCxn id="159" idx="0"/>
              <a:endCxn id="166" idx="2"/>
            </p:cNvCxnSpPr>
            <p:nvPr/>
          </p:nvCxnSpPr>
          <p:spPr>
            <a:xfrm flipV="1" rot="16200000">
              <a:off x="4929840" y="1355760"/>
              <a:ext cx="857520" cy="157284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2058"/>
            <p:cNvCxnSpPr>
              <a:stCxn id="171" idx="0"/>
              <a:endCxn id="166" idx="2"/>
            </p:cNvCxnSpPr>
            <p:nvPr/>
          </p:nvCxnSpPr>
          <p:spPr>
            <a:xfrm flipH="1" flipV="1" rot="5400000">
              <a:off x="230688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059"/>
            <p:cNvSpPr/>
            <p:nvPr/>
          </p:nvSpPr>
          <p:spPr>
            <a:xfrm>
              <a:off x="3671280" y="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(Definiciones)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2060"/>
            <p:cNvSpPr/>
            <p:nvPr/>
          </p:nvSpPr>
          <p:spPr>
            <a:xfrm>
              <a:off x="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dquisi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destrezas y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ctitudes qu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ocurren po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grupal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2061"/>
            <p:cNvSpPr/>
            <p:nvPr/>
          </p:nvSpPr>
          <p:spPr>
            <a:xfrm>
              <a:off x="524556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as partes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promete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 trabaja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lgo juntos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labo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unicación y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negociación claves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2062"/>
            <p:cNvSpPr/>
            <p:nvPr/>
          </p:nvSpPr>
          <p:spPr>
            <a:xfrm>
              <a:off x="734472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Situación en qu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2 o más person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n  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ntentan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r alg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forma conjun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2063"/>
            <p:cNvSpPr/>
            <p:nvPr/>
          </p:nvSpPr>
          <p:spPr>
            <a:xfrm>
              <a:off x="209880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trucción d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enso a travé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coopera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miembros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_s2064"/>
            <p:cNvSpPr/>
            <p:nvPr/>
          </p:nvSpPr>
          <p:spPr>
            <a:xfrm>
              <a:off x="1051560" y="514260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e compart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utoridad y 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cepta  respon-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de accione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grupales</a:t>
              </a:r>
              <a:r>
                <a:rPr b="0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2065"/>
            <p:cNvSpPr/>
            <p:nvPr/>
          </p:nvSpPr>
          <p:spPr>
            <a:xfrm>
              <a:off x="3150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En </a:t>
              </a:r>
              <a:r>
                <a:rPr b="1" lang="en-US" sz="1500" spc="-1" strike="noStrike">
                  <a:solidFill>
                    <a:srgbClr val="cc0000"/>
                  </a:solidFill>
                  <a:latin typeface="Arial"/>
                </a:rPr>
                <a:t>coope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 está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iseñada par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ogro de  met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por un grupo qu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trabaja junto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_s2066"/>
            <p:cNvSpPr/>
            <p:nvPr/>
          </p:nvSpPr>
          <p:spPr>
            <a:xfrm>
              <a:off x="5247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Grupo decide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cóm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alizar  tarea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cedimientos,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ivisión trabajo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areas a realizar</a:t>
              </a: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72" name="Picture 12" descr="j0343445[1]"/>
          <p:cNvPicPr/>
          <p:nvPr/>
        </p:nvPicPr>
        <p:blipFill>
          <a:blip r:embed="rId1"/>
          <a:stretch/>
        </p:blipFill>
        <p:spPr>
          <a:xfrm>
            <a:off x="395280" y="260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7"/>
          <p:cNvSpPr/>
          <p:nvPr/>
        </p:nvSpPr>
        <p:spPr>
          <a:xfrm>
            <a:off x="5435640" y="1773360"/>
            <a:ext cx="14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Gro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2556000" y="1773360"/>
            <a:ext cx="155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Panitz, 199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324000" y="213372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alina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7199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llenbourg,199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5"/>
          <p:cNvSpPr/>
          <p:nvPr/>
        </p:nvSpPr>
        <p:spPr>
          <a:xfrm>
            <a:off x="2700360" y="3213000"/>
            <a:ext cx="2879640" cy="107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111720" y="1346040"/>
            <a:ext cx="30261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OPER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OBLE OBJETIV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1. Lograr su aprendiza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2,  Desarrollar 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el trabajo en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4932360" y="4724280"/>
            <a:ext cx="4211640" cy="1729080"/>
          </a:xfrm>
          <a:prstGeom prst="parallelogram">
            <a:avLst>
              <a:gd name="adj" fmla="val 608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renden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y de cada uno 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s integra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 rot="10800000">
            <a:off x="-360" y="4510080"/>
            <a:ext cx="4140360" cy="23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tercambia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formación y materi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yuda efectiva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ficien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Retroalimentación y análi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jora en claridad de 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0" y="1052640"/>
            <a:ext cx="2700360" cy="280800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EN 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prenden a resolv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untos  proble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habilidades liderazg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municación-confianz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 decision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l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flictos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2556000" y="260280"/>
            <a:ext cx="3311280" cy="2016360"/>
          </a:xfrm>
          <a:prstGeom prst="hexagon">
            <a:avLst>
              <a:gd name="adj" fmla="val 31331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valuación periódic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cciones, Me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dentifican camb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para mejor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n el futu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6300720" y="3068640"/>
            <a:ext cx="244800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arten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tas,  Recurs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gros,  y entiend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l rol de cada u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V="1">
            <a:off x="4932360" y="2276640"/>
            <a:ext cx="1150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24"/>
          <p:cNvSpPr/>
          <p:nvPr/>
        </p:nvSpPr>
        <p:spPr>
          <a:xfrm>
            <a:off x="7524720" y="2924280"/>
            <a:ext cx="21420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5076720" y="4149720"/>
            <a:ext cx="86364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1618920" y="3860640"/>
            <a:ext cx="1081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 flipH="1" flipV="1">
            <a:off x="2843280" y="2781360"/>
            <a:ext cx="7920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 flipV="1">
            <a:off x="4211640" y="227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Organization Chart 6"/>
          <p:cNvGrpSpPr/>
          <p:nvPr/>
        </p:nvGrpSpPr>
        <p:grpSpPr>
          <a:xfrm>
            <a:off x="324000" y="404640"/>
            <a:ext cx="8819280" cy="5396400"/>
            <a:chOff x="324000" y="404640"/>
            <a:chExt cx="8819280" cy="5396400"/>
          </a:xfrm>
        </p:grpSpPr>
        <p:cxnSp>
          <p:nvCxnSpPr>
            <p:cNvPr id="191" name="_s3076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5736960" y="155880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3077"/>
            <p:cNvCxnSpPr>
              <a:stCxn id="195" idx="0"/>
              <a:endCxn id="193" idx="2"/>
            </p:cNvCxnSpPr>
            <p:nvPr/>
          </p:nvCxnSpPr>
          <p:spPr>
            <a:xfrm flipV="1">
              <a:off x="4733280" y="2562840"/>
              <a:ext cx="3960" cy="108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3078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2649960" y="155916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3079"/>
            <p:cNvSpPr/>
            <p:nvPr/>
          </p:nvSpPr>
          <p:spPr>
            <a:xfrm>
              <a:off x="3410640" y="40464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_s3080"/>
            <p:cNvSpPr/>
            <p:nvPr/>
          </p:nvSpPr>
          <p:spPr>
            <a:xfrm>
              <a:off x="32400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e valid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teraccione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ociales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_s3081"/>
            <p:cNvSpPr/>
            <p:nvPr/>
          </p:nvSpPr>
          <p:spPr>
            <a:xfrm>
              <a:off x="3410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Visión del aporte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de 2 o má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dividuo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que trabaj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por meta común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_s3082"/>
            <p:cNvSpPr/>
            <p:nvPr/>
          </p:nvSpPr>
          <p:spPr>
            <a:xfrm>
              <a:off x="6497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Result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un producto má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enriquecido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cab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motivado por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acciones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negociaci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y diálog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98" name="Picture 15" descr=""/>
          <p:cNvPicPr/>
          <p:nvPr/>
        </p:nvPicPr>
        <p:blipFill>
          <a:blip r:embed="rId1"/>
          <a:stretch/>
        </p:blipFill>
        <p:spPr>
          <a:xfrm>
            <a:off x="179280" y="577800"/>
            <a:ext cx="29163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2"/>
          <p:cNvSpPr/>
          <p:nvPr/>
        </p:nvSpPr>
        <p:spPr>
          <a:xfrm>
            <a:off x="2411280" y="0"/>
            <a:ext cx="2951280" cy="129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VENTAJAS DE 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219640" y="1056240"/>
            <a:ext cx="3924360" cy="25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ontribuye de un modo particular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a lograr metas de grup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Nadie gana méritos “a costa” del trabajo de los demá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rindan </a:t>
            </a: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ayuda y apoyo mutuo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en  cumplimiento de  tare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Es </a:t>
            </a: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individualmente responsab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le de parte equitativa de trabajo grup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140360" y="4581360"/>
            <a:ext cx="5003640" cy="2087640"/>
          </a:xfrm>
          <a:prstGeom prst="parallelogram">
            <a:avLst>
              <a:gd name="adj" fmla="val 5992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asadas en </a:t>
            </a: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interpersona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confianza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mutua,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municación cla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y sin ambigüedad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poyo mutuo y   resolución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tructiva  de conflictos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 rot="10800000">
            <a:off x="-360" y="4510080"/>
            <a:ext cx="4140360" cy="23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Procesos de reflexión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bre su proces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decisiones en cua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 su funcionamient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0" y="476280"/>
            <a:ext cx="2700360" cy="259236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s intencional y basa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  la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heterogene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e basa en diferenci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habilidades, así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como característic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persona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y géner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979640" y="2133720"/>
            <a:ext cx="3456000" cy="230328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xpresión formalizad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valores y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accion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ética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que imperan  en un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ituación 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señanza-aprendizaj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Comunidad de aprendizaj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 la que se respet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la expresión de punt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vista diferen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 rot="20084400">
            <a:off x="6361560" y="388440"/>
            <a:ext cx="19875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Cada estudi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 rot="20521800">
            <a:off x="6143040" y="3860640"/>
            <a:ext cx="29984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Actividades colaborativ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 rot="20493600">
            <a:off x="66600" y="4208040"/>
            <a:ext cx="22924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El grupo se some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 rot="20493600">
            <a:off x="2772720" y="1557000"/>
            <a:ext cx="2646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El trabajo 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 rot="20808000">
            <a:off x="236520" y="159840"/>
            <a:ext cx="201420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Formación grup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4" descr="Image1715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ÉRMINOS NO AFINES AL T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ivo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morización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dividual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et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BIBLIOGRAF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250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D.W. Johnson, R.T.,&amp; Holubec, E.J. (1999). El aprendizaje cooperativo en el aula. Barcelona: Pai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C. (1993). Aprendizaje Colaborativo, referencia virtual del Instituto Tecnológico de Monterrey, México http://campus.gda.itesm.mx/c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Kaye, (1991). en Salinas, J. (2000). El aprendizaje colaborativo con los nuevos canales de comunicación, 199 – 227.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Panitz, T., and Panitz, P., (1998). Encouraging the Use of Collaborative Learning in Higher Education. In J.J. Forest (ed.) Issues Facing International Education, June, 1998, NY, NY: Garland Publis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alinas, J. (2000). El aprendizaje colaborativo con los nuevos canales de comunicación, 199 – 227;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Vygotsky, L.S. (1979). El desarrollo de los procesos sicológicos superiores. Barcelona: Crític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Zañartu, L.M. (2002). Educar a jóvenes marginales con ordenadores en red. Comunicar, 18, / www.2uhu.es/comunicar/revis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20:02:50Z</dcterms:created>
  <dc:creator>judith cardoso</dc:creator>
  <dc:description/>
  <dc:language>en-US</dc:language>
  <cp:lastModifiedBy>VEROSK</cp:lastModifiedBy>
  <dcterms:modified xsi:type="dcterms:W3CDTF">2013-05-29T16:42:23Z</dcterms:modified>
  <cp:revision>37</cp:revision>
  <dc:subject/>
  <dc:title>TRABAJO COLABORATIVO</dc:title>
</cp:coreProperties>
</file>